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A12-5CBB-481A-9E48-3E8F3909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C61-18F3-49BE-9E06-5F08405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489-0E63-4CDC-BD00-4F8062B0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E61-11C8-4F68-8A25-89C056DA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5C0-241A-40A8-9CBF-FC76843B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309-F9A7-420E-9226-C6516AB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6B1-2458-4416-B261-91A316C3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D31-BCD7-4EE5-A802-337A7B7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497-A16B-4D76-A816-C312D592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AD8-727D-4DCE-AA88-B7084D47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9F5-1403-4473-AB71-520EF0E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81C-99D7-4F5E-8353-920736C3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5DEF-D091-435D-B2AC-BBBEFE402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Date: Thursday, May 26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ly, you are responsible to create a way to communicate the behaviours of waves to grade 5 stu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think about what would be appealing to a grade 5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reative, be inform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story book  or science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it fun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include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book is complete without a cov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marks for an attractive 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s will be given for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spelling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definition/explanation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drawing/illustration of the 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ur                                5 Marks/Behavi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5:20:41Z</dcterms:created>
  <dc:creator>School District 17</dc:creator>
  <dc:description/>
  <dc:language>en-US</dc:language>
  <cp:lastModifiedBy>Administrator</cp:lastModifiedBy>
  <dcterms:modified xsi:type="dcterms:W3CDTF">2011-05-17T18:24:24Z</dcterms:modified>
  <cp:revision>10</cp:revision>
  <dc:subject/>
  <dc:title>Today’s NewAssignment</dc:title>
</cp:coreProperties>
</file>